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6.pct" ContentType="image/x-pict"/>
  <Override PartName="/ppt/media/image7.pct" ContentType="image/x-pict"/>
  <Override PartName="/ppt/media/image8.pct" ContentType="image/x-pict"/>
  <Override PartName="/ppt/media/image9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66602-99DE-4414-9AFE-F649F5976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DA986-332E-45A7-83C8-C7C53934C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04EC1-D9E1-454F-90B2-6201540D2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91DC4-66D9-4573-AB7B-EC8DF0ED7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08376-6ACE-46A8-9558-BAD409BB8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DCE44-2DA6-4359-AA89-9783A0426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D6FCF-A586-4176-9D9F-CC47CBC18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881E6-FF3D-402A-9D2C-89240D0BF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CDDB6-EED8-4219-8360-2A01E4F2F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9D9C1-AF07-4486-886F-11E7A9DEC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D7D94-3B60-45FF-BFE4-20AFEF24A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916F9-E3DA-4B50-91B0-99600BB2D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72BAF-1DC7-4AE4-9659-31484A5AA1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image" Target="../media/image1.pct"/><Relationship Id="rId3" Type="http://schemas.openxmlformats.org/officeDocument/2006/relationships/image" Target="../media/image1.pct"/><Relationship Id="rId4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image" Target="../media/image4.pct"/><Relationship Id="rId3" Type="http://schemas.openxmlformats.org/officeDocument/2006/relationships/image" Target="../media/image4.pct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ct"/><Relationship Id="rId2" Type="http://schemas.openxmlformats.org/officeDocument/2006/relationships/image" Target="../media/image9.pct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 Week Of Mathematical Adventure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reated By Tom Palumb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219320" y="5181480"/>
            <a:ext cx="7238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or The Catapult Learning Series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PATC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724200" y="2522520"/>
            <a:ext cx="1695600" cy="18115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724200" y="2522520"/>
            <a:ext cx="1695600" cy="18115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2514600" y="1676520"/>
            <a:ext cx="41148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Lucida Sans Unicode"/>
              </a:rPr>
              <a:t>Monday</a:t>
            </a:r>
            <a:r>
              <a:rPr b="0" lang="en-US" sz="4400" spc="-1" strike="noStrike">
                <a:solidFill>
                  <a:srgbClr val="000000"/>
                </a:solidFill>
                <a:latin typeface="Lucida Sans Unicode"/>
              </a:rPr>
              <a:t> I aced the math tes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1371600" y="2446200"/>
            <a:ext cx="5943600" cy="364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Math Test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           </a:t>
            </a: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A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Lucida Sans Unicode"/>
              </a:rPr>
              <a:t>Tuesday</a:t>
            </a:r>
            <a:r>
              <a:rPr b="0" lang="en-US" sz="4400" spc="-1" strike="noStrike">
                <a:solidFill>
                  <a:srgbClr val="000000"/>
                </a:solidFill>
                <a:latin typeface="Lucida Sans Unicode"/>
              </a:rPr>
              <a:t> I gave body measurement my bes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637080" y="2540160"/>
            <a:ext cx="1868400" cy="17762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981080" y="2540160"/>
            <a:ext cx="5562720" cy="32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Lucida Sans Unicode"/>
              </a:rPr>
              <a:t>Wednesday’s money problems were a ball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865680" y="2570040"/>
            <a:ext cx="1411200" cy="17161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681360" y="2535120"/>
            <a:ext cx="1781280" cy="17859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1828800" y="2514600"/>
            <a:ext cx="5638680" cy="32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Lucida Sans Unicode"/>
              </a:rPr>
              <a:t>Thursday my team found the area of our hall</a:t>
            </a:r>
            <a:r>
              <a:rPr b="0" lang="en-US" sz="44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286000" y="2320920"/>
            <a:ext cx="4419720" cy="347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Lucida Sans Unicode"/>
              </a:rPr>
              <a:t>Friday</a:t>
            </a:r>
            <a:r>
              <a:rPr b="0" lang="en-US" sz="4400" spc="-1" strike="noStrike">
                <a:solidFill>
                  <a:srgbClr val="000000"/>
                </a:solidFill>
                <a:latin typeface="Lucida Sans Unicode"/>
              </a:rPr>
              <a:t> we played “What’s My Rule”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600200" y="2590920"/>
            <a:ext cx="579132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Lucida Sans Unicode"/>
              </a:rPr>
              <a:t>Saturday I pretended teaching division in school</a:t>
            </a:r>
            <a:r>
              <a:rPr b="0" lang="en-US" sz="44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438280" y="2666880"/>
            <a:ext cx="4267440" cy="31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Lucida Sans Unicode"/>
              </a:rPr>
              <a:t>Sunday</a:t>
            </a:r>
            <a:r>
              <a:rPr b="0" lang="en-US" sz="4400" spc="-1" strike="noStrike">
                <a:solidFill>
                  <a:srgbClr val="000000"/>
                </a:solidFill>
                <a:latin typeface="Lucida Sans Unicode"/>
              </a:rPr>
              <a:t>, EveryDay Math was easy to study. I had my dad as my buddy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3665520" y="2679840"/>
            <a:ext cx="1812960" cy="14983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1905120" y="2362320"/>
            <a:ext cx="579096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1T17:48:59Z</dcterms:created>
  <dc:creator>Thomas J. Palumbo</dc:creator>
  <dc:description/>
  <dc:language>en-US</dc:language>
  <cp:lastModifiedBy>Tom Palumbo</cp:lastModifiedBy>
  <dcterms:modified xsi:type="dcterms:W3CDTF">2009-03-19T12:13:25Z</dcterms:modified>
  <cp:revision>25</cp:revision>
  <dc:subject/>
  <dc:title>A Week Of Adventures</dc:title>
</cp:coreProperties>
</file>